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9C5CD-F662-45E6-A7B1-19FFC4AF1C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6C68E-9507-4A46-A353-D5D89A460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photos to possibly use another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FF67B-B2A6-46F2-B346-CF301D428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494-E0B4-4D07-B7B3-E41D6C21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AAB-14AF-4343-8B96-BE73BE2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B83-E372-4115-A039-A5092EBC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5CE-574C-40F4-8911-B12C7935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404-DAD4-4DD2-81D5-9F5D426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CE9-9356-4DA9-9CF4-C756E0A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4EB-D332-43B0-A061-4B004202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511-53BE-48A8-9BDC-224667C4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C90-0A33-44C1-B5FC-74B9BB4C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690-76BC-4CED-9096-2FD7C9A0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CA7-9E47-48FC-A863-21FEF11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F2C-7EF3-45AC-ADD8-102E2A7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0473E-E708-49D1-8AE8-D42B9C0CA8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9E55A-394C-4523-A3D5-61ED2F27E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33440" y="925560"/>
            <a:ext cx="3695760" cy="3632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-108000" y="4000680"/>
            <a:ext cx="434340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4343400" y="3911760"/>
            <a:ext cx="4533840" cy="294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4357800" y="987480"/>
            <a:ext cx="4519440" cy="2644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2281320" y="95400"/>
            <a:ext cx="65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re and contrast the photos from 1968 (left) to the photos from 2006 (righ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(6 + observ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81080" y="9540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START UP-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Page 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Page 14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5520" y="1600200"/>
            <a:ext cx="853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watch films or read books w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ally relate &amp; compare our lives to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rac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aspects of this film could you really relate to? Was there anything you could not relate to? (5 li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984400" y="1911240"/>
            <a:ext cx="3175200" cy="303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714680" y="1098720"/>
            <a:ext cx="5715000" cy="46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727280" y="1701720"/>
            <a:ext cx="56894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2:14:07Z</dcterms:created>
  <dc:creator>Teacher</dc:creator>
  <dc:description/>
  <dc:language>en-US</dc:language>
  <cp:lastModifiedBy>Teacher</cp:lastModifiedBy>
  <dcterms:modified xsi:type="dcterms:W3CDTF">2012-03-15T00:33:22Z</dcterms:modified>
  <cp:revision>4</cp:revision>
  <dc:subject/>
  <dc:title>Slide 1</dc:title>
</cp:coreProperties>
</file>